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9E3-F76D-4C18-B543-648645B0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70B-5AFD-44E2-9E45-6669CB1F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6F5-25F8-453A-A25F-200EF7A2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F64-0B07-4C90-93CA-EE0464FE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79D-4F1B-4E86-B896-308ECA05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EF7-23B7-45CB-88CD-5CF31125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301-B5B2-4BEF-A2A5-97B7AB76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704-28A7-4BB0-A2C3-E8B6029D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11A-3837-4792-BCB3-7BDB785F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895-8E0C-4518-A3DF-654577E0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BF0-4DB1-4630-B1BF-7854C5E5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017-1737-48BE-8F02-25535DF0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01BA-2144-4F02-A62C-56576BA5E7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atangChe"/>
                <a:ea typeface="BatangChe"/>
              </a:rPr>
              <a:t>TALLER DE METODOLOGÍA DEL APRENDIZ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atangChe"/>
                <a:ea typeface="BatangChe"/>
              </a:rPr>
              <a:t>T.G.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atangChe"/>
                <a:ea typeface="BatangChe"/>
              </a:rPr>
              <a:t>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9194d"/>
                </a:solidFill>
                <a:latin typeface="BatangChe"/>
                <a:ea typeface="BatangChe"/>
              </a:rPr>
              <a:t>TRABAJO DE PASAJE DE CURSO:</a:t>
            </a:r>
            <a:br>
              <a:rPr sz="3600"/>
            </a:br>
            <a:r>
              <a:rPr b="1" lang="es-ES" sz="3600" spc="-1" strike="noStrike">
                <a:solidFill>
                  <a:srgbClr val="19194d"/>
                </a:solidFill>
                <a:latin typeface="BatangChe"/>
                <a:ea typeface="BatangChe"/>
              </a:rPr>
              <a:t>ASPECTOS FORM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572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HOJA: A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ARIAL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ESPACIO: 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MÁRGENES: 2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NÚMERO DE PÁGINAS DEL TRABAJO: 3 (Aproxim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REFERENCIAS Y CITAS AL FI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RESUMEN (50 PALAB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PALABRAS CLAVE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	</a:t>
            </a: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ESTRUC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RES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PALABRAS CL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CARÁTULA( título  y datos pers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6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4649"/>
                </a:solidFill>
                <a:latin typeface="BatangChe"/>
                <a:ea typeface="BatangChe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0000"/>
                </a:solidFill>
                <a:latin typeface="BatangChe"/>
                <a:ea typeface="BatangChe"/>
              </a:rPr>
              <a:t>TRABAJO DE PASAJE DE CURSO:</a:t>
            </a:r>
            <a:br>
              <a:rPr sz="3600"/>
            </a:br>
            <a:r>
              <a:rPr b="1" lang="es-ES" sz="3600" spc="-1" strike="noStrike">
                <a:solidFill>
                  <a:srgbClr val="990000"/>
                </a:solidFill>
                <a:latin typeface="BatangChe"/>
                <a:ea typeface="BatangChe"/>
              </a:rPr>
              <a:t>ASPECTOS ACADÉM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BatangChe"/>
                <a:ea typeface="BatangChe"/>
              </a:rPr>
              <a:t>PROPUES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BatangChe"/>
                <a:ea typeface="BatangChe"/>
              </a:rPr>
              <a:t>Realizar un trabajo crítico, reflexivo, individual y personal sob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BatangChe"/>
                <a:ea typeface="BatangChe"/>
              </a:rPr>
              <a:t>Técnicas y Herramientas aprendidas en el cur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BatangChe"/>
                <a:ea typeface="BatangChe"/>
              </a:rPr>
              <a:t>Conceptos, metodologías y autores incorporados: su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Batang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BatangChe"/>
                <a:ea typeface="BatangChe"/>
              </a:rPr>
              <a:t>Procesos emocionales y afectivos que pueden incidir en la subjetividad y en el desempeño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15:44:23Z</dcterms:created>
  <dc:creator>Cristina Heuguerot</dc:creator>
  <dc:description/>
  <dc:language>en-US</dc:language>
  <cp:lastModifiedBy>Colonia</cp:lastModifiedBy>
  <dcterms:modified xsi:type="dcterms:W3CDTF">2010-08-04T20:32:55Z</dcterms:modified>
  <cp:revision>2</cp:revision>
  <dc:subject/>
  <dc:title>TALLER DE METODOLOGÍA DEL APRENDIZAJE</dc:title>
</cp:coreProperties>
</file>